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7CF2-B4FC-4451-8BD0-548997B5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6C3E-EDE3-4AA2-BF4C-241E6810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6BF3-5EDC-439C-888D-EA5A45D8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533-1E55-46DA-AC24-5E89ED1D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161-7C02-4321-B88F-BE232302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691-50F4-469D-B8AC-C3A615E9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0E19-541E-478B-84E3-145D65FE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2FB5-F2C4-4CAA-AAA8-E508602C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1B31-F061-461E-84C3-07C52CB0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8EB-DDC8-47A9-BF26-F2DC04FB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FC9B-D040-4266-9689-CC0E106A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7312-4720-4705-A048-BE66B565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731A-9E21-4F5D-9C34-6BB4AD358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3.png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947200">
            <a:off x="837720" y="1980720"/>
            <a:ext cx="7239240" cy="250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1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ens and Ones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5181480"/>
            <a:ext cx="5943600" cy="825120"/>
          </a:xfrm>
          <a:prstGeom prst="rect">
            <a:avLst/>
          </a:prstGeom>
          <a:solidFill>
            <a:srgbClr val="cc99ff"/>
          </a:solidFill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umbers to 50  (fifty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2895480" cy="2884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33720" y="6095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chel Freshour - Talbott Elemen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638680" y="1828800"/>
            <a:ext cx="2971800" cy="14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s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5     5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3886200"/>
            <a:ext cx="2971800" cy="14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s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4     4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3886200"/>
            <a:ext cx="2971800" cy="14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s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     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studenttoon" descr=""/>
          <p:cNvPicPr/>
          <p:nvPr/>
        </p:nvPicPr>
        <p:blipFill>
          <a:blip r:embed="rId1"/>
          <a:stretch/>
        </p:blipFill>
        <p:spPr>
          <a:xfrm>
            <a:off x="0" y="2286000"/>
            <a:ext cx="2081160" cy="2681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362320" y="1828800"/>
            <a:ext cx="2971800" cy="14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s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4     4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2514600"/>
            <a:ext cx="762120" cy="7621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38880" y="2514600"/>
            <a:ext cx="762120" cy="7621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4648320"/>
            <a:ext cx="761760" cy="7617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4648320"/>
            <a:ext cx="762120" cy="7617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09680" y="60948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w did you do?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90720" y="9907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catpeek" descr=""/>
          <p:cNvPicPr/>
          <p:nvPr/>
        </p:nvPicPr>
        <p:blipFill>
          <a:blip r:embed="rId1"/>
          <a:stretch/>
        </p:blipFill>
        <p:spPr>
          <a:xfrm>
            <a:off x="3414600" y="2552760"/>
            <a:ext cx="2314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47920" y="45720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have learned to trade 10 ones for 1 t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3505320"/>
            <a:ext cx="609840" cy="561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14600" y="2895480"/>
            <a:ext cx="609480" cy="563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09680" y="3733920"/>
            <a:ext cx="609840" cy="561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8120" y="4267080"/>
            <a:ext cx="609480" cy="561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914400" y="4495680"/>
            <a:ext cx="609480" cy="561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581280" y="3429000"/>
            <a:ext cx="609840" cy="56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1828800" y="4800600"/>
            <a:ext cx="609480" cy="561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2133720" y="5654520"/>
            <a:ext cx="609480" cy="561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1371600" y="5648400"/>
            <a:ext cx="533520" cy="49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2819520" y="5273640"/>
            <a:ext cx="609480" cy="561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248520" y="5791320"/>
            <a:ext cx="609480" cy="563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6248520" y="1676520"/>
            <a:ext cx="609480" cy="563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6248520" y="1219320"/>
            <a:ext cx="609480" cy="563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6248520" y="5334120"/>
            <a:ext cx="609480" cy="563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248520" y="4800600"/>
            <a:ext cx="609480" cy="563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6248520" y="4267080"/>
            <a:ext cx="609480" cy="563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6248520" y="3809880"/>
            <a:ext cx="609480" cy="563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6248520" y="3276720"/>
            <a:ext cx="609480" cy="563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6248520" y="2743200"/>
            <a:ext cx="609480" cy="563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248520" y="2209680"/>
            <a:ext cx="609480" cy="563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48320" y="342900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marvin" descr=""/>
          <p:cNvPicPr/>
          <p:nvPr/>
        </p:nvPicPr>
        <p:blipFill>
          <a:blip r:embed="rId21"/>
          <a:stretch/>
        </p:blipFill>
        <p:spPr>
          <a:xfrm>
            <a:off x="7391520" y="3809880"/>
            <a:ext cx="14014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3880" y="2133720"/>
            <a:ext cx="6096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838080"/>
            <a:ext cx="0" cy="4724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990720"/>
            <a:ext cx="243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TE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99072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ON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9439400">
            <a:off x="761760" y="480024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541008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tens column.  One ten equals 10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438280" y="289548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715000" y="289548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 rot="1661400">
            <a:off x="7162920" y="495288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5638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ones colum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 rot="16200000">
            <a:off x="228600" y="1676160"/>
            <a:ext cx="20574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685800" y="1676160"/>
            <a:ext cx="20574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3581280" y="1676160"/>
            <a:ext cx="20574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3124080" y="1676160"/>
            <a:ext cx="20574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2666880" y="1676160"/>
            <a:ext cx="20574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6705720" y="1676160"/>
            <a:ext cx="20574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6248520" y="1676160"/>
            <a:ext cx="20574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5791320" y="1676160"/>
            <a:ext cx="20574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5334120" y="1676160"/>
            <a:ext cx="20574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533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533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375800">
            <a:off x="495000" y="2857320"/>
            <a:ext cx="457200" cy="685800"/>
          </a:xfrm>
          <a:custGeom>
            <a:avLst/>
            <a:gdLst>
              <a:gd name="textAreaLeft" fmla="*/ 0 w 457200"/>
              <a:gd name="textAreaRight" fmla="*/ 457560 w 4572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733920"/>
            <a:ext cx="3505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groups of 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472428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en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56386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7339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groups        of 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47242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56386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733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groups of 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681800">
            <a:off x="7848720" y="2971800"/>
            <a:ext cx="914400" cy="457200"/>
          </a:xfrm>
          <a:custGeom>
            <a:avLst/>
            <a:gdLst>
              <a:gd name="textAreaLeft" fmla="*/ 159840 w 914400"/>
              <a:gd name="textAreaRight" fmla="*/ 663120 w 9144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3048120"/>
            <a:ext cx="381240" cy="609480"/>
          </a:xfrm>
          <a:prstGeom prst="upArrow">
            <a:avLst>
              <a:gd name="adj1" fmla="val 50000"/>
              <a:gd name="adj2" fmla="val 39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4724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56386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rot="16200000">
            <a:off x="-228240" y="1599840"/>
            <a:ext cx="2057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1600200" y="1599840"/>
            <a:ext cx="2057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143000" y="1599840"/>
            <a:ext cx="2057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685800" y="1599840"/>
            <a:ext cx="2057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28600" y="1599840"/>
            <a:ext cx="2057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312408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groups of ten are her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6483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6386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1752480"/>
            <a:ext cx="3886200" cy="3750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Knowing how many tens and ones are in a number will help us practice numbers to 5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8280" y="2133720"/>
            <a:ext cx="1533600" cy="2100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1482840" cy="2022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133720" y="9144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91440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762120"/>
            <a:ext cx="0" cy="36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05740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0043000">
            <a:off x="1447920" y="441936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2555600">
            <a:off x="6172200" y="449532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95288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ells us that there a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s of 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952880"/>
            <a:ext cx="21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ells us that there a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86600" y="2133720"/>
            <a:ext cx="20574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ing this, we know that our number i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3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216864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1963440" cy="2362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362320" y="762120"/>
            <a:ext cx="213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76212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91440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175248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0043000">
            <a:off x="1143000" y="487656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2555600">
            <a:off x="6629400" y="487656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510552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ells us that  there 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oups of 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5105520"/>
            <a:ext cx="21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ells us that there a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2133720"/>
            <a:ext cx="1905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ing this, we know that our number i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96080" y="3809880"/>
            <a:ext cx="91440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48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1447920" cy="1417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1376640" cy="1347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38080" y="76212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7621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685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447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1523880" cy="1492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743200" y="4419720"/>
            <a:ext cx="1450800" cy="1420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38080" y="3581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3581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36576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42670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137160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426708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144792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426708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905120" y="45720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k the correct nu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1828800"/>
            <a:ext cx="2971800" cy="14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s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5     5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886200"/>
            <a:ext cx="2971800" cy="14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s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4     4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3886200"/>
            <a:ext cx="2971800" cy="14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s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     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studenttoon" descr=""/>
          <p:cNvPicPr/>
          <p:nvPr/>
        </p:nvPicPr>
        <p:blipFill>
          <a:blip r:embed="rId1"/>
          <a:stretch/>
        </p:blipFill>
        <p:spPr>
          <a:xfrm>
            <a:off x="0" y="2286000"/>
            <a:ext cx="2081160" cy="2681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362320" y="1828800"/>
            <a:ext cx="2971800" cy="14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s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4     4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9T23:39:01Z</dcterms:created>
  <dc:creator>Rachel Freshour</dc:creator>
  <dc:description/>
  <dc:language>en-US</dc:language>
  <cp:lastModifiedBy>oem</cp:lastModifiedBy>
  <dcterms:modified xsi:type="dcterms:W3CDTF">1999-02-03T15:19:55Z</dcterms:modified>
  <cp:revision>7</cp:revision>
  <dc:subject/>
  <dc:title>No Slide Title</dc:title>
</cp:coreProperties>
</file>